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C031-24F8-4241-A43A-A958D73C4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C2C7-BB25-4E0C-98AB-6C67C284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CFA7-71AC-4048-B40B-1521A4DB3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6E67-D188-44B1-AF14-77ACD115F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E92B9-8237-4B23-8498-74E691F3C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93B42-6CFA-483E-BC90-4C3CE479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3B312-18DF-4787-8181-D7229C94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CF55DF-C37A-46B4-B055-659FD931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E5459D-7FAB-4852-9B52-CA56FED0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B7C089-7092-4C4C-895D-8C2B081B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B663B0-8524-4414-BBE2-45C3484BA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90AE-204C-4E1E-9BA3-7E44580CC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D551B-5353-4E6E-8D0B-D8D7520E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4797E5-4AC0-4DF7-972A-D3F27465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312A7-25C1-4AC3-A0FA-C4F56231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8D2490-31A9-437D-A741-5FD9DB9A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8CF903-D95E-4981-BCA9-C61FE2DBA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644A-6D09-4B91-ACDD-C49FD128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FB7E-680E-44DD-8BC6-197518363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CA1F-F0AA-4E95-86D8-4F2B126F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004D-DE3E-48BE-8871-BC50460A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BE65-9EDE-446E-8773-99B364DB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D1E6-57D1-4A00-AC1D-4D18C080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4DF5-BAD9-4F42-9C88-B6083F04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D9B0-E432-463C-9510-E75F98206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02D8-6D74-4237-915C-AA5C6FC0F64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0464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MEĐUNARODNI ZDRAVSTVENI PRAVILNI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220640"/>
            <a:ext cx="6400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Doc. dr Nataša Ranči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4" descr="Zavod boja"/>
          <p:cNvPicPr/>
          <p:nvPr/>
        </p:nvPicPr>
        <p:blipFill>
          <a:blip r:embed="rId1"/>
          <a:stretch/>
        </p:blipFill>
        <p:spPr>
          <a:xfrm>
            <a:off x="4500720" y="152280"/>
            <a:ext cx="3958920" cy="17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Zakon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o zaštiti stanovništva od zaraznih bolesti koje ugrožavaju celu zemlju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donet je 1974. godine. Odnosio se na celu teritoriju SFRJ (24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Svakoj republici i pokrajini ostavljeno je pravo da donese svoje zakonske propise kojima može da proširi listu zaraznih bolesti koje se obavezno prijavlju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vaj Zakon imao je više dopuna i promena i to 1984, 1990, 1992 i 1996. god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Aktuelni  </a:t>
            </a:r>
            <a:r>
              <a:rPr b="1" lang="sr-Latn-CS" sz="2800" spc="-1" strike="noStrike">
                <a:solidFill>
                  <a:srgbClr val="ffcc00"/>
                </a:solidFill>
                <a:latin typeface="Times New Roman"/>
              </a:rPr>
              <a:t>Zakon o zaštiti stanovništva od zaraznih bolesti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, donet je 2016. godine (Službeni glasnik RS, 25.2.2016. Br. 15/2016.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Ovim zakonom uređuju se zaštita stanovništva od zaraznih bolest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Određuju zarazne bolesti koje se obavezno prijavljuj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Definišu mere zaštite od zaraznih bolest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Sprovođenje epidemiološkog nadzo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pidem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0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idemija zarazne bolesti je obolevanje od zarazne bolesti neuobičajeno po broju slučajeva, vremenu, mestu i zahvaćenoj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pulaciji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i neuobičajeno povećanje broja obolelih sa komplikacijama ili smrtnim ishodom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java dva ili više međusobno povezanih slučajeva zarazne bolesti koja se nikada ili više godina nije pojavljivala na jednom području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java većeg broja oboljenja čiji je uzročnik nepoznat, a prati ih febrilno stanje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ndemij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emija zarazne bolesti je obolevanje od zarazne bolesti koja prelazi državne granice i širi se na veći deo sveta ili svet u celini, ugrožavajući ljude u svim zahvaćenim područjima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azne bolesti po kategorijama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lesti koje se mogu sprečiti imunizacijom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Difterija (Diphtheria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(2) Infekcije uzrokovane hemofilusom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luence grupe B (Haemophilus influenzae B cut causa morborum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 Influenca/Grip uključujući influencu A(H1N1) (Influenzae/Influenzae A (H1N1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) Morbili/Male boginje (Morbilli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5) Parotitis/Zauške (Parotitis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6) Pertusis/Veliki kašalj (Pertussis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7) Poliomijelitis/Dečja paraliza (Poliomyelitis anterior acuta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8) Rubela/Crvenka (Rubella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9) Variola vera/Velike boginje (Variola vera),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) Tetanus (Tetanu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lno prenosive bolesti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 Infekcije hlamidijom (Infectio chlamydia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 Gonokokne infekcije (Infectio gonococcica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 Infekcija uzrokovana virusom humane imunodeficijencije (HIV-om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) Sifilis (Syphillis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fi-FI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rusni hepatitisi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(1) Hepatitis A (Hepatitis A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(2) Hepatitis B (Hepatitis B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(3) Hepatitis C (Hepatitis C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lesti koje se prenose hranom i vodom i bolesti uzrokovane okruženjem (životnom sredinom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 Antraks (Anthrax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 Botulizam (Botulismu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3) Kampilobakterioza (Campylobacteri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) Kriptosporidioza (Cryptosporidi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5) Lambliaza (Đardioza) (Labliasis)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ekcija uzrokovana enterohemoragijskom E. Koli (Infectio intestinalis per E. Coli enterohaemorrhagicam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7) Leptospiroza (Leptospir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8) Listerioza (Listeri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9) Salmoneloza (Salmonell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) Šigeloza (Shigell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1) Toksoplazmoza (Toxoplasm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2) Trihineloza (Trichinelosi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63880" indent="-263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3) Jersinioza (Yersinosis)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stale bolest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lesti koje se prenose nekonvencionalnim uzročnicim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Zarazne spongioformne encefalopatije, varijanta Krojcfeldt-Jakobsove bolesti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U svetu je došlo do pojave novih ali i do ponovnog javljanja starih zaraznih bolest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stoje veliki rizici od bioloških i radioaktivnih agenas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Početkom 21. veka pojavila se realna p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treba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0" lang="sr-Latn-CS" sz="2800" spc="-1" strike="noStrike">
                <a:solidFill>
                  <a:srgbClr val="ffffff"/>
                </a:solidFill>
                <a:latin typeface="Times New Roman"/>
              </a:rPr>
              <a:t>revizijom Međunarodnog zdravstvenog pravilni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lesti koje se prenose vazduhom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Legioneloza (Legionellosi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Meningokokna bolest (invazivna bolest) (Morbus Meningococcica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Pneumokokne infekcije (invazivna bolest) (Infectio Pneumococcal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Tuberkuloza (Tuberculosi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Težak akutni respiratorni sindrom (SARS) (SARS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Zoonoz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uceloza (Brucellosi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Ehinokokoza (Echinococcosi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Besnilo (Rabie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Q groznica (Q-febri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Tularemija (Tularaemi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856800"/>
            <a:ext cx="8229600" cy="516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vijarna influenca kod ljudi (Avian influenzae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Infekcija uzrokovana virusom Zapadnog Nila (Febris West Nile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Hemoragijska groznica sa bubrežnim sindromom (Febris haemorrhagica cum syndroma renali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4) Ozbiljne uvezene bolesti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Kolera (Cholera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Malarija (Malaria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Kuga (Pestis)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rusne hemoragične groznice (Viral haemorrhagic fevers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olesti koje se prenose vektorim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Krpeljski encefalitis (Encephalitis viralis ixodib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ebna zdravstvena pitanja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) Bolničke infekcije (infekcije povezane sa zdravstvenom zaštitom)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2) Antimikrobna rezistencija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anitarni nadzo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arni nadzor je inspekcijski nadzor koji sprovodi sanitarni inspektor u skladu sa zakonom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071360"/>
            <a:ext cx="822960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a obolela od zaraznih bolesti imaju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a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avezu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 se leče i pridržavaju propisanih mera i uputstava zdravstvenih ustanova i privatne praks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ca koja stalno ili povremeno izlučuju uzročnike zarazne bolesti, obavezna su da se pridržavaju propisanih mera i uputstava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je odredi nadležni doktor medicine, odnosno doktor medicine specijalista epidemiologij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RE ZA SPREČAVANJE I SUZBIJANJE ZARAZNIH BOLESTI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499840"/>
            <a:ext cx="8229600" cy="35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ŠTE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PROVODE SE U OBJEKTIMA KOJE PODLEŽU SANITARNOM NADZOR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EBNE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SPROVODE IH ZDRAVSTVENI RADNI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prečavanje i suzbijanj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vi-V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čavanje pojave zarazne bolesti jeste skup mera koje se stalno sprovode u cilju predupređivanja pojave infekcije ili zarazne bolesti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zbijanje zarazne bolesti jeste skup mera koje se sprovode protiv već prisutne zarazne bolesti, u cilju smanjenja njen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čestalosti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ŠTE M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bezbeđenje ispravne vode za piće (dezinfekcija vode u vodovodima, hlorisanje), obezbeđenje ispravne vode za sanitarno-higijenske i rekreativne potrebe (bazeni) i zaštita izvoriš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bezbeđenje zdravstvene ispravnosti hrane (od proizvodnje, districubucije, usluživanja) i sanitarno-higijenskih uslova objekata u kojima se proizvodi hran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Tekst revizije prihvatila je Svetska zdravstvena skupština, maja 2005. god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ovi Pravilnik je stupio na snagu 2 godine od usvajanja,  maja 2007. god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ŠTE M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bezbeđenje zdravstvene ispravnosti kupališnih, bazenskih voda, javnih česmi i izvo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obezbeđenje higijene na javnim površinama-parkovi, u javnim objektima (pozorišta, bioskopi), javnom prevoz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igijensko otklanjanje otpadnih materija , leševa životinja,higijena na groblj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ŠTE M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ovođenje preventivne dezinfekcije, dezinsekcije i deratizacije u naseljenim mestima, na javnim površinama, u objektima u kojima se obavlja društvena delatn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šte mere sprovode javno komunalna preduzeć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EBNE M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RANO OTKRIVANJE IZVORA I REZERVOARA ZARAZE I PUTEVA PRENOŠENJ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IDEMIOLOŠKO ISPITIVANJE I ISTRAŽIVAN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BORATORIJSKO ISPITIVANJE RADI UTVRĐIVANJE UZROČNIKA BOLE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EBNE M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TAVLJANJE DIJAGNOZ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JAVLJIVAN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VOZ, IZOLACIJA I LEČEN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DRAVSTVENI NADZOR I KARANTI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UNIZACIJA I HEMOPROFILAK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ZINFEKCIJA, DEZINSEKCIJA I DERATIZACIJA PO EPIDEMIOLOŠKIM INDIKACIJ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OSEBNE M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DRAVSTVENI PREGLEDI LICA ODREĐENIH KATEGORIJA ZAPOSLENIH  RADI UTVRĐIVANJA KLICONOŠT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DRAVSTVENO VASPITANJE I OBRAZOVANJE ODREĐENIH KATEGORIJA ZAPOSLENI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ISANJE ZDRAVSTVENIH RADNIKA I STANOVNIŠTV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SPEKCIJSKI NADZOR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še ga samostalno sanitarni inspektor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adi zaštite od unošenja zaraznih bolesti na teritoriju Republike Srbije</a:t>
            </a:r>
            <a:r>
              <a:rPr b="0" lang="vi-V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sanitarni inspektori na granici, vrše sanitarni nadzo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d putnicima i njihovim stvarima i nad saobraćajnim sredstvima u međunarodnom saobraća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ahoma"/>
              </a:rPr>
              <a:t>1)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vi-V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edi zdravstveni pregled lica i biološkog materijala radi utvrđivanja zaraznih bolesti;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) zabrani, odnosno ograniči kretanje osobama za koje se posumnja ili se utvrdi da su se mogle zaraziti kugom, velikim boginjama, virusnim hemoragijskim groznicama, žutom groznicom, SARS-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571680"/>
            <a:ext cx="82296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) zabrani unošenje u zemlju hrane i vode licima koja dolaze iz zemalja u kojima ima kolere i iz drugih zemalja u kojima ima drugih zaraznih bolesti koje se mogu preneti hranom i vodom,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) naredi preduzimanje drugih mera u skladu sa ovim zakonom i obavezama utvrđenim međunarodnim sanitarnim konvencijama i drugim međunarodnim ugovorim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Značajne novin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mesto određenog broja karantinskih bolesti, predmet novog pravilnika su </a:t>
            </a: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događaji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koji mogu da predstavljaju opasnost za narodno zdravlje u međunarodnim razmeram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Pojava makar i jednog obolelog od </a:t>
            </a:r>
            <a:r>
              <a:rPr b="1" lang="sr-Latn-CS" sz="3200" spc="-1" strike="noStrike">
                <a:solidFill>
                  <a:srgbClr val="ff0000"/>
                </a:solidFill>
                <a:latin typeface="Times New Roman"/>
              </a:rPr>
              <a:t>velikih boginja, poliomijelitisa i teškog respiratornog sindroma (SARS) zahteva obaveznu prijavu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rijava neke od sledećih bolesti: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kolera, plućna kuga, plućni antraks i žuta groznica,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zavisi od lokalnih okolnosti i donosi se na osnovu posebne liste (algoritma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 cilju efikasnog sprovođenja Pravilnika, svaka zemlja članica mora da osnuje Nacionalni cent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U Pravilniku je predviđena </a:t>
            </a:r>
            <a:r>
              <a:rPr b="0" lang="sr-Latn-CS" sz="3200" spc="-1" strike="noStrike">
                <a:solidFill>
                  <a:srgbClr val="ffc000"/>
                </a:solidFill>
                <a:latin typeface="Times New Roman"/>
              </a:rPr>
              <a:t>obavezna vakcinacija i preventivna zaštita lekovima (hemioprofilaksa) za putnike u međunarodnom saobraćaju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0000"/>
                </a:solidFill>
                <a:latin typeface="Times New Roman"/>
              </a:rPr>
              <a:t>Žuta groznica 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je jedina bolest koja se u tom konteksu posebno pominje. Ostavljena je i mogućnost da se u posebnim uslovima ustanovi karant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78100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ff"/>
                </a:solidFill>
                <a:latin typeface="Times New Roman"/>
              </a:rPr>
              <a:t>ZAKONSKA REGULATIVA KOD NA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6" descr="Zavod boja"/>
          <p:cNvPicPr/>
          <p:nvPr/>
        </p:nvPicPr>
        <p:blipFill>
          <a:blip r:embed="rId1"/>
          <a:stretch/>
        </p:blipFill>
        <p:spPr>
          <a:xfrm>
            <a:off x="2556000" y="152280"/>
            <a:ext cx="5400720" cy="23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Naša zemlja ima veoma razvijeno sanitarno zakonodavstv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Posle II svetskog rata, 1948. godine donet je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Opšti zakon o sprečavanju i suzbijanju zaraznih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bolesti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obavezno prijavljivanje za 24 zarazne bolesti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Ovaj Zakon je sa izmenama i dopunama, 1964. godine pretvoren u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Osnovni zakon o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3200" spc="-1" strike="noStrike">
                <a:solidFill>
                  <a:srgbClr val="ffffff"/>
                </a:solidFill>
                <a:latin typeface="Times New Roman"/>
              </a:rPr>
              <a:t>sprečavanju i suzbijanju zaraznih bolesti</a:t>
            </a:r>
            <a:r>
              <a:rPr b="0" lang="sr-Latn-CS" sz="3200" spc="-1" strike="noStrike">
                <a:solidFill>
                  <a:srgbClr val="ffffff"/>
                </a:solidFill>
                <a:latin typeface="Times New Roman"/>
              </a:rPr>
              <a:t> (42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07:27:15Z</dcterms:created>
  <dc:creator>Intel</dc:creator>
  <dc:description/>
  <dc:language>en-US</dc:language>
  <cp:lastModifiedBy>Natasa Rancic</cp:lastModifiedBy>
  <dcterms:modified xsi:type="dcterms:W3CDTF">2017-10-12T08:27:51Z</dcterms:modified>
  <cp:revision>60</cp:revision>
  <dc:subject/>
  <dc:title>MEĐUNARODNI ZDRAVSTVENI PRAVILNI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